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742-4729-4B03-9AF7-53A728A4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F319-B352-4172-89BD-45E1FC72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574-E68E-4238-A4D8-1E2514B9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459-05A1-495B-8B19-1E6EDDE5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0AC2-2064-45F0-82ED-DBAB44D9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B07F-CDB6-4D2A-9588-79D26648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9834-88E0-47AC-AC75-7AA60FF0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A6125-5B0B-4CE5-9EA5-7DE04AB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9D1D-25FE-4779-A2B1-6EBF7889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78E4-CDD8-4E5D-9C93-757EA104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A18C-E76B-45A4-98CF-BC1451F5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85D3-A021-4A80-9EE1-060A9194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BAF8-59D2-4491-9904-029D95AE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2232-F3AB-4DFA-ABC2-3C4E5596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79A3-D806-455A-9AAF-A094EC2E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4003-1A20-42E6-9B3B-9560C0FF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B4DC-A091-4744-8E77-41F05103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120-E70B-402C-B517-68839F95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0525-4113-4036-A608-E0088344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8645-8AD6-4550-8A61-02A88C28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5E61-B071-4705-9A35-601A004B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0086-A018-4C13-9984-3EB42E0B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2969-B8CB-4628-B900-7ADC6A72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CDC-F66E-48F1-9A99-2CDF3601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AAB1-4FA7-491A-B347-A57598A01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6172-3FDD-4A0D-8512-1FA1E80390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MacOS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Laurie Yingling</cp:lastModifiedBy>
  <dcterms:modified xsi:type="dcterms:W3CDTF">2009-04-28T03:20:43Z</dcterms:modified>
  <cp:revision>15</cp:revision>
  <dc:subject/>
  <dc:title>Jeopardy</dc:title>
</cp:coreProperties>
</file>